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A070-6632-4652-A6FA-B1A1182F7E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F10-5EFF-4431-BF17-D1F15E65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47B-9BD1-4042-8698-19E5CC57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662-96F5-4E1D-98C1-3B53293E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255-E349-4952-85EF-CF37FDC9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DD93-80DD-4D13-B194-5A7F7662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ABB3-F0E2-4B2A-8254-2423C735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9BA5-4885-4678-86FC-6CFC7666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FA05-C4C0-4BCF-98F2-40C11B97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0C3E-ADD9-4178-9487-AABD8AF6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B255-D3F3-49E0-AF16-776F976F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90F2-FD74-4739-93CB-BF1E4DE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AB5-F591-4353-BC9D-FB776C58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5856-907E-4FE2-87B0-79A44D48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6C66-2EE1-46E4-8CE5-0EC9A60C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9007-FD55-462D-B3FA-4065E9CB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478E-FEC7-48A5-B857-6944A04B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E22D-6C87-443D-B137-D21E6C52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B3C-A945-4DFD-9EB7-5A9ACC6C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08CF-1921-4E3D-9496-FBCDFC8D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A22-0283-4C08-ADF8-AAC85903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253-D11C-4762-8227-839EE4D0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F69-4456-44C7-82A4-E7A38447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BC3-DF0F-461C-A33C-DD7D4A58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C83-3618-4EB8-A2D2-8A8783B3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CDFB-F613-446E-80FA-D0B304D40A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A8CA-4768-493C-B3C8-474C9CA5BF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Renewable energy sources inclu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Wind,solar,wave,  goethermal,hyd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Non Renewable Sources inclu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– made from dead forest materi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Gas and oil – made from dead sea creatur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Power st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 –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hemical energy to heat energ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umped Storage Syste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otential energy at the top dam to kinet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nergy in pipes to electrical energy at bottom reservoi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5-09-21T07:19:33Z</dcterms:modified>
  <cp:revision>25</cp:revision>
  <dc:subject/>
  <dc:title>Slide 1</dc:title>
</cp:coreProperties>
</file>